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BD3-F508-4D72-ADED-30268F61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469-D17B-45F7-B16D-C2DFE337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BCD-544B-46DA-B7E8-DD5D953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F1A-7E5B-4787-892D-F7BC4050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D3F-9F4B-4028-B5AD-A466714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AC6-4767-45D3-8093-458655B3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52A-C074-452B-8519-36407FAA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B77-489A-40D1-A96E-450595E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035-6F3B-4362-8ADD-F8A7465D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A99-78D5-463C-9758-C8AC2623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D55-C586-49FE-A74E-5FAC7EB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D65-42E3-4237-B6AD-7BFFA60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EBD-1C46-4C2F-AE82-0D93548C1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6160" y="0"/>
          <a:ext cx="656424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0"/>
                    <a:ext cx="65642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9160" y="0"/>
          <a:ext cx="661824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0"/>
                    <a:ext cx="66182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320" y="0"/>
          <a:ext cx="670392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0"/>
                    <a:ext cx="670392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7320" y="0"/>
          <a:ext cx="654192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0"/>
                    <a:ext cx="654192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our</cp:lastModifiedBy>
  <dcterms:modified xsi:type="dcterms:W3CDTF">2009-03-10T11:33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